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62A69-D0A2-465F-B2D0-B5AD23429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69E3B-27CF-41E0-82BB-155A38D7C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1DDB3-4A2C-4412-B8A1-FC96121CC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10ED4-6044-4B1A-9F8B-A7FC33C2E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93DC3-6967-44F1-8971-780E11FF8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362D5-413F-45D1-9F71-D8C513DD2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3129A-8C0D-45FB-8AC2-E1FC36FC7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1A82E-5872-4F48-817D-16AA8779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C0F26-F7F3-42DF-9012-75FB40CEE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5D15C-4EDF-44D8-8028-0FFBFE7A5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D9C64-95E9-430A-9EA4-3372E4065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C9097-5610-4A32-B1FC-36837AD96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1541-EE6E-41FD-BF30-A8483F159B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ethlehempaonline.com/lastcast2.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hsp.org/default.aspx?id=946"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85800"/>
            <a:ext cx="9144000" cy="5303880"/>
          </a:xfrm>
          <a:prstGeom prst="rect">
            <a:avLst/>
          </a:prstGeom>
          <a:ln w="0">
            <a:noFill/>
          </a:ln>
        </p:spPr>
      </p:pic>
      <p:sp>
        <p:nvSpPr>
          <p:cNvPr id="42" name="PlaceHolder 1"/>
          <p:cNvSpPr>
            <a:spLocks noGrp="1"/>
          </p:cNvSpPr>
          <p:nvPr>
            <p:ph type="subTitle"/>
          </p:nvPr>
        </p:nvSpPr>
        <p:spPr>
          <a:xfrm>
            <a:off x="1371600" y="4952880"/>
            <a:ext cx="6400800" cy="9144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se and fall of an American Industrial Giant</a:t>
            </a:r>
            <a:endParaRPr b="0" lang="en-US" sz="3200" spc="-1" strike="noStrike">
              <a:solidFill>
                <a:srgbClr val="000000"/>
              </a:solidFill>
              <a:latin typeface="Arial"/>
            </a:endParaRPr>
          </a:p>
        </p:txBody>
      </p:sp>
      <p:sp>
        <p:nvSpPr>
          <p:cNvPr id="43" name=""/>
          <p:cNvSpPr/>
          <p:nvPr/>
        </p:nvSpPr>
        <p:spPr>
          <a:xfrm>
            <a:off x="0" y="624852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oto retrieved from: http://www.oboylephoto.com/steel/index.htm</a:t>
            </a:r>
            <a:endParaRPr b="0" lang="en-US" sz="16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609120"/>
            <a:ext cx="7543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it this web page</a:t>
            </a:r>
            <a:br>
              <a:rPr sz="4400"/>
            </a:b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990720" y="1219320"/>
            <a:ext cx="7086600" cy="4076640"/>
          </a:xfrm>
          <a:prstGeom prst="rect">
            <a:avLst/>
          </a:prstGeom>
          <a:ln w="0">
            <a:noFill/>
          </a:ln>
        </p:spPr>
      </p:pic>
      <p:sp>
        <p:nvSpPr>
          <p:cNvPr id="67" name=""/>
          <p:cNvSpPr/>
          <p:nvPr/>
        </p:nvSpPr>
        <p:spPr>
          <a:xfrm>
            <a:off x="1523880" y="571500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Last Cast</a:t>
            </a:r>
            <a:endParaRPr b="0" lang="en-US" sz="24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848720" cy="579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ile viewing the website provided about the Last Cast on November 18th 1995, with a partner, complete the photograph NARA worksheet to analyze one of the photographs provided on this page.</a:t>
            </a:r>
            <a:br>
              <a:rPr sz="3600"/>
            </a:br>
            <a:endParaRPr b="0" lang="en-US" sz="3600" spc="-1" strike="noStrike">
              <a:solidFill>
                <a:srgbClr val="000000"/>
              </a:solidFill>
              <a:latin typeface="Arial"/>
            </a:endParaRPr>
          </a:p>
        </p:txBody>
      </p:sp>
      <p:sp>
        <p:nvSpPr>
          <p:cNvPr id="69" name=""/>
          <p:cNvSpPr/>
          <p:nvPr/>
        </p:nvSpPr>
        <p:spPr>
          <a:xfrm>
            <a:off x="1143000" y="380880"/>
            <a:ext cx="7086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3</a:t>
            </a:r>
            <a:endParaRPr b="0" lang="en-US" sz="44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for the Steel, Creating a Community</a:t>
            </a:r>
            <a:endParaRPr b="0" lang="en-US" sz="4400" spc="-1" strike="noStrike">
              <a:solidFill>
                <a:srgbClr val="000000"/>
              </a:solidFill>
              <a:latin typeface="Arial"/>
            </a:endParaRPr>
          </a:p>
        </p:txBody>
      </p:sp>
      <p:sp>
        <p:nvSpPr>
          <p:cNvPr id="71" name="PlaceHolder 2"/>
          <p:cNvSpPr>
            <a:spLocks noGrp="1"/>
          </p:cNvSpPr>
          <p:nvPr>
            <p:ph/>
          </p:nvPr>
        </p:nvSpPr>
        <p:spPr>
          <a:xfrm>
            <a:off x="762120" y="5562720"/>
            <a:ext cx="7772400" cy="8380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is </a:t>
            </a:r>
            <a:r>
              <a:rPr b="0" lang="en-US" sz="2800" spc="-1" strike="noStrike" u="sng">
                <a:solidFill>
                  <a:srgbClr val="009999"/>
                </a:solidFill>
                <a:uFillTx/>
                <a:latin typeface="Times New Roman"/>
                <a:hlinkClick r:id="rId1"/>
              </a:rPr>
              <a:t>article</a:t>
            </a:r>
            <a:r>
              <a:rPr b="0" lang="en-US" sz="2800" spc="-1" strike="noStrike">
                <a:solidFill>
                  <a:srgbClr val="000000"/>
                </a:solidFill>
                <a:latin typeface="Times New Roman"/>
              </a:rPr>
              <a:t> before you complete your final task!</a:t>
            </a:r>
            <a:endParaRPr b="0" lang="en-US" sz="2800" spc="-1" strike="noStrike">
              <a:solidFill>
                <a:srgbClr val="000000"/>
              </a:solidFill>
              <a:latin typeface="Arial"/>
            </a:endParaRPr>
          </a:p>
        </p:txBody>
      </p:sp>
      <p:pic>
        <p:nvPicPr>
          <p:cNvPr id="72" name="" descr=""/>
          <p:cNvPicPr/>
          <p:nvPr/>
        </p:nvPicPr>
        <p:blipFill>
          <a:blip r:embed="rId2"/>
          <a:stretch/>
        </p:blipFill>
        <p:spPr>
          <a:xfrm>
            <a:off x="2438280" y="1981080"/>
            <a:ext cx="4267440" cy="3430800"/>
          </a:xfrm>
          <a:prstGeom prst="rect">
            <a:avLst/>
          </a:prstGeom>
          <a:ln w="0">
            <a:noFill/>
          </a:ln>
        </p:spPr>
      </p:pic>
      <p:sp>
        <p:nvSpPr>
          <p:cNvPr id="73" name=""/>
          <p:cNvSpPr/>
          <p:nvPr/>
        </p:nvSpPr>
        <p:spPr>
          <a:xfrm>
            <a:off x="533520" y="5943600"/>
            <a:ext cx="571500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ticle retrieved from:</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hsp.org/default.aspx?id=946</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4 </a:t>
            </a:r>
            <a:br>
              <a:rPr sz="4400"/>
            </a:br>
            <a:r>
              <a:rPr b="0" lang="en-US" sz="4400" spc="-1" strike="noStrike">
                <a:solidFill>
                  <a:srgbClr val="000000"/>
                </a:solidFill>
                <a:latin typeface="Times New Roman"/>
              </a:rPr>
              <a:t>Your Final Task! </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write a brief summary of what you have learned about the rise and the fall of Bethlehem Steel. </a:t>
            </a:r>
            <a:endParaRPr b="0" lang="en-US" sz="3200" spc="-1" strike="noStrike">
              <a:solidFill>
                <a:srgbClr val="000000"/>
              </a:solidFill>
              <a:latin typeface="Arial"/>
            </a:endParaRPr>
          </a:p>
        </p:txBody>
      </p:sp>
      <p:pic>
        <p:nvPicPr>
          <p:cNvPr id="76" name="" descr=""/>
          <p:cNvPicPr/>
          <p:nvPr/>
        </p:nvPicPr>
        <p:blipFill>
          <a:blip r:embed="rId1"/>
          <a:stretch/>
        </p:blipFill>
        <p:spPr>
          <a:xfrm>
            <a:off x="3733920" y="3657600"/>
            <a:ext cx="1698480" cy="174132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A Workshee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hlehem Pa on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SP</a:t>
            </a:r>
            <a:endParaRPr b="0" lang="en-US" sz="32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thlehem Steel</a:t>
            </a:r>
            <a:endParaRPr b="0" lang="en-US" sz="44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eel is an important piece of our local history. It attracted many people to Bethlehem and surrounding areas seeking jobs. It provided the Lehigh Valley with the promise of a bright financial future and a stable economy. After many years of success followed by years of uncertainty, it eventually shut its doors in 1995.</a:t>
            </a:r>
            <a:endParaRPr b="0" lang="en-US" sz="3200" spc="-1" strike="noStrike">
              <a:solidFill>
                <a:srgbClr val="000000"/>
              </a:solidFill>
              <a:latin typeface="Aria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29528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watch the following video and use the NARA worksheet provided to analyze the video. Submit your worksheet to your teacher when you are done.</a:t>
            </a:r>
            <a:endParaRPr b="0" lang="en-US" sz="3200" spc="-1" strike="noStrike">
              <a:solidFill>
                <a:srgbClr val="000000"/>
              </a:solidFill>
              <a:latin typeface="Arial"/>
            </a:endParaRPr>
          </a:p>
        </p:txBody>
      </p:sp>
      <p:sp>
        <p:nvSpPr>
          <p:cNvPr id="47" name="PlaceHolder 2"/>
          <p:cNvSpPr>
            <a:spLocks noGrp="1"/>
          </p:cNvSpPr>
          <p:nvPr>
            <p:ph/>
          </p:nvPr>
        </p:nvSpPr>
        <p:spPr>
          <a:xfrm>
            <a:off x="609480" y="2666520"/>
            <a:ext cx="7848720" cy="3429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333399"/>
                </a:solidFill>
                <a:latin typeface="Times New Roman"/>
              </a:rPr>
              <a:t>Allentown- Bethlehem Steel Tribu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1143000" y="304920"/>
            <a:ext cx="7010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 1</a:t>
            </a:r>
            <a:endParaRPr b="0" lang="en-US" sz="4400" spc="-1" strike="noStrike">
              <a:solidFill>
                <a:srgbClr val="000000"/>
              </a:solidFill>
              <a:latin typeface="Arial"/>
            </a:endParaRPr>
          </a:p>
        </p:txBody>
      </p:sp>
      <p:sp>
        <p:nvSpPr>
          <p:cNvPr id="49" name=""/>
          <p:cNvSpPr/>
          <p:nvPr/>
        </p:nvSpPr>
        <p:spPr>
          <a:xfrm>
            <a:off x="457200" y="5486400"/>
            <a:ext cx="800100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deo retrieved from:</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vodpod.com/watch/3242495-allentown-bethlehem-steel-tribu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RA Worksheets provided b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archives.gov/education/lessons/worksheets/</a:t>
            </a:r>
            <a:endParaRPr b="0" lang="en-US" sz="16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of Event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850-190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outhside Bethlehem became industrial during this time period with railroad and iron production. Immigrants came looking for work, Bethlehem Steel was created, though it was originally an iron company.</a:t>
            </a:r>
            <a:endParaRPr b="0" lang="en-US" sz="32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of Events</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900-192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the help from Charles Schwab and WWI, a series of changes happened at Bethlehem Steel. It increased in size and production. Bethlehem became known as a prosperous “steel town.”</a:t>
            </a:r>
            <a:endParaRPr b="0" lang="en-US" sz="32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of Events</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920-1960</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The second world war and the formation of American infrastructure increased the demand for steel. This was the Golden Age for the steel industry. Eugene Grace took over after Charles Schwab and at the same time the labor workers became united with the formation of the national steelworkers union.</a:t>
            </a:r>
            <a:endParaRPr b="0" lang="en-US" sz="28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of Events</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960-198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eel appeared to be continuing its prosperous years however with the growing number of mini-mills and foreign steel importation it was threatened. The executives still enjoyed their high salaries and extensive perks, while the laborers still were paid high wages and were protected by the unio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of Event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980-199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der new chairman Donald Trautlein Bethlehem Steel had major staff cuts and the city itself realized that they were losing their single financial basis.Changing prices, failure to diversify, foreign production and outdated practices along with overspending had written the fate for Bethlehem Steel.</a:t>
            </a:r>
            <a:endParaRPr b="0" lang="en-US" sz="3200" spc="-1" strike="noStrike">
              <a:solidFill>
                <a:srgbClr val="000000"/>
              </a:solidFill>
              <a:latin typeface="Arial"/>
            </a:endParaRPr>
          </a:p>
        </p:txBody>
      </p:sp>
      <p:sp>
        <p:nvSpPr>
          <p:cNvPr id="60" name=""/>
          <p:cNvSpPr/>
          <p:nvPr/>
        </p:nvSpPr>
        <p:spPr>
          <a:xfrm>
            <a:off x="990720" y="6134040"/>
            <a:ext cx="4114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61" name=""/>
          <p:cNvSpPr/>
          <p:nvPr/>
        </p:nvSpPr>
        <p:spPr>
          <a:xfrm>
            <a:off x="609480" y="6172200"/>
            <a:ext cx="6934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line retrieved from:</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bethlehempaonline.com/public_html/timeline.html</a:t>
            </a:r>
            <a:endParaRPr b="0" lang="en-US" sz="16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2</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at least three of the contributing factors that lead to the fall of Bethlehem Steel.</a:t>
            </a:r>
            <a:endParaRPr b="0" lang="en-US" sz="32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10:18:02Z</dcterms:created>
  <dc:creator>EASD EASD</dc:creator>
  <dc:description/>
  <dc:language>en-US</dc:language>
  <cp:lastModifiedBy>EASD EASD</cp:lastModifiedBy>
  <dcterms:modified xsi:type="dcterms:W3CDTF">2010-11-03T18:45:20Z</dcterms:modified>
  <cp:revision>19</cp:revision>
  <dc:subject/>
  <dc:title>Bethlehem Steel</dc:title>
</cp:coreProperties>
</file>